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7EF-4EA1-4737-848E-CB4446BC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E3E-F5D2-4A48-BEF9-0FDA5208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B5EC7-B0BA-4760-8AB2-0715A986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47DB-B3DD-4B61-BC46-39D4D61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03E8C-1759-4C61-908E-C805847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D34C1-03E7-43E6-875C-CB2FB38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49BB9-AAC2-47DF-8865-06BEB1EB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CE873-8CAB-4C7E-951A-4292C2C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4701-5E79-48CA-A97B-276A990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8013B-D14D-4F20-A763-EC381A36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0B69-3B54-4F8C-BC73-8A94A179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B1AA2-28BA-4477-BB25-7767EEAE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144-D65F-4EDE-9679-AAD474AC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587DD-3979-4BF3-92F6-00A2151E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EB4C6-676C-43A3-A865-81F7DD6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BFD9D-E9B7-4BAE-AFCC-6F8B0CA4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6402C-95C2-4D6B-BDB6-BC9D49F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C750E-803F-435E-8C7B-4F11C386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CF1C7-2BA7-4730-B45C-C6F1407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035F7-2C5E-414B-AC92-3FF86961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F837D-1B4A-4740-9F1A-1483B71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AD558-FFE6-4EC3-A8F3-0EFB54C4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F1D24-787D-42FA-8DCA-4E043A99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A48-D802-41BA-AC0C-61DC193A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9C232-28E4-4E25-A725-50DBF19F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16C1E-87C0-43D2-98BF-A05A475B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AB94C-96AD-44ED-8CDB-8417FFD0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5614E-F630-4846-8A2F-8A274EDE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715B8-7E5D-4CE5-ABCC-AA36A73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B2A62-9012-4D89-9ABF-DBCF803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B7566-6F44-4C27-BE1E-4E07B4A7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BB737-B36C-4998-A377-97957546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FC227-181D-4B75-B2AA-B5A497AB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9115-42A2-4E56-B467-1A5EE37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8FD6-58D7-4AB7-B368-70F2EFE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493FC-D63E-4FDE-8CE0-93816F9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EBC24-681A-4E31-A3B3-4CD7C9F5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5717-D8BF-46AC-BBCD-079CE30B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2C54-6004-4F1F-BA51-1AD74A04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A5B26-C5E9-4D1B-92D4-AC812607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FC392-AFB4-424B-8E9B-5B7C67D2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586BC-62A1-4D93-9E15-550A883E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65B80-EB4A-4E97-850E-E3FAA7A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D5E7B-EA66-49EA-A72F-365EEE79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DD0FB-6770-4CD9-926E-7D09C78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C90-CF95-48DA-82F9-384488A7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8B9BE-B530-42C9-B916-1197435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BBEF7-1993-4364-B67F-FF4C6C6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01803-F1B5-4973-8C5B-0409879A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BA674-61CD-4445-B467-38BF392C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A2799-4A5A-4C07-AE27-428A9948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E64C9-512D-4C98-805C-FC428B6F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E2532-2FDC-4476-A943-B8018B65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68EB3-A5CD-401C-A8CE-9EBFB347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A9871-29DD-47FB-8E91-7A626F55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EF1C5-3E35-4616-A630-B0DA79F5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8A81-8BBD-49A8-A011-9147166F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EE79B-3E51-4E67-96C8-597FBA2E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03EC9-EDE7-4021-9A19-A3DED39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96E4D-215F-40D4-9CA5-4027AA8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66F09-C74D-4631-8419-B842509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50179-7DA5-4D21-8243-682CECC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8F221-F7F7-4F41-908A-B5509D12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9E785-8319-430C-BED3-5D11A7E6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66AE8-7A9B-4618-ADE2-F7211E65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ABD74-77FE-4C84-B822-F4173877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3153D-D798-4D95-9696-0DD99C9E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0F7E-7629-4BB3-B3CB-833BE1A4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5644C-576C-4FDC-8C2F-E2393094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4F6EB-9055-4E32-890F-B1E17344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69778-23B3-437B-B612-100D76F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0A70A-F6BD-4A30-8683-9FC15B5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BA254-25D1-49B3-A7BC-7736B74E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34FAF-5C09-48D0-A6F6-E28E5BD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AF330-578E-44E8-A550-62CB87A3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23D4F-E10D-4F01-9E43-C32D59EC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6ACE4-8327-4C70-8B9C-E3A6260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88C37-C3F8-4D8B-B593-B3291B89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417-D9BD-471D-84F3-13237B4C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86504-3155-4B20-9012-8EF67532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D0952-9BD1-477C-8BF7-0B809D7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36812-18F4-4AD5-B2D3-AC9EF65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750CD-1295-443A-AE80-86142E1C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5F1E7-0F15-4180-AE28-21B7BF65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4FD10-086E-411E-B82C-AD8639A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F50B3-27D8-4866-8488-B3658733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8713D-B56E-453A-85A3-D1CE1FD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1AAA2-80FD-4E0B-B648-D6DC5F79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5EE1A-A2C3-47C0-913A-2FCCE23C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F46E-1673-4D7A-955E-4BE7FE14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71D9E-4E37-4710-93CF-3997F784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92AAD-E856-412F-989F-3152163A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EE58F-14BD-4EC6-BE17-C04D9B9C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B264B-D928-46F8-9A74-F2DB3F02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C3DAF-B5DC-46C2-8D72-651E3259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E961F-D2E8-44D4-8A36-C019D74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9E41F-AFFF-40CB-A10B-E7E77EB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3BDD3-0359-444C-8A05-EF51FAC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19A0B-F12A-42D8-888E-7B9EAC2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5A857-9C53-4395-A53A-07541846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2698-48BE-4D42-B740-0A4A20F4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CA9DA-A631-43E7-B6DF-68373CF2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ADEFD-8706-47AB-AA13-C3977B29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69012-0284-4DFD-8B19-2365E6A9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CBEA2-BA25-406C-A166-08F4F3B4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E6FE8-A72A-4ABA-A0BE-30EF5CB1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99364-9231-42EF-AEDF-8669F586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0E168-E5C0-4D15-9831-31A8760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C2ABC-C0A2-4401-ACE3-AA5CAD6E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DD459-E911-4838-8B32-CAB9A1B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5D368-1B82-4E5A-99EB-00A6A4E1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F31-D261-4237-BC2E-1FA8B3D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345-D0E1-41F3-9331-94F4659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E948D-3CD3-406C-BB7D-7D74549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513E2-B39A-46B6-A136-FA819DE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92A51-3DF0-4CD9-B0A8-972F932B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2F87A-4F43-482D-B544-142181E2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4047B-9DF7-44B5-8F0C-05666BBE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202B2-03A4-4AF6-99C3-3CAB3438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8C959-94B8-4191-B1DB-9C0E76E5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5B84F-65DD-4E99-BF16-F0C0117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79462-2BA2-4FC6-8FDF-511748A3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C466F-3E49-48B8-AFAA-EA91B8C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C622-E2E7-4CB9-A60D-6A2387D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1EEAA-7FF6-425F-BE54-7D4F3905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66460-0E41-48CD-AC46-CFE8B19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C3F3A-0D7D-43F4-9F43-D064ACB4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60F7C-67FF-4503-8215-D2B06FA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A7974-DC7D-4586-9C25-7AED114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D83AB-2341-457F-8C55-74D30808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06C38-D449-44A0-9D93-0C2186E0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517D2-5D57-49C9-845C-AFD686E3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DBFB3-C52E-4F01-9421-EA93A551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D04D9-157D-4084-A870-158342A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BFEF-90EC-4E83-83C9-C8467AF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56764-0D4B-4237-89AE-C1F61ADF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250B7-7D61-4656-8EB0-ADFEA997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22D95-BB86-400B-9F24-4276B9D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D3A95-0AAC-4D8B-84CF-7295EF5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4AB15F-33FD-4A86-86C1-E60FB81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98BE7-7B98-43D1-9F32-849C49F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FB15C-B899-43DD-A414-253206E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749F3-9E96-4061-8CE3-C62E0EAF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B8E8A-05F9-4943-A442-567C8797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E857A-B169-4848-94A3-35B53FFB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0FBA-5CE6-47CB-82CF-DD365090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3815F-76DE-427B-8A26-2AC50A0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EBEEE-2CA6-4BD3-9A1D-22BDE928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0B943-BE87-48F8-BE65-6F49C508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E3EEE-91D9-40BF-AEB3-B53401AF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A018A-5390-4696-B3C6-CFFB50EC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AD3E9-153C-41F6-855E-667F80C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EBE18-0945-4607-AD17-0B37727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55282-B2AC-45A0-A518-575EA23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48DC7-DC51-4B35-82B2-60FADAEB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AB4F1-CBF1-40B9-9AB6-C3E10205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CD25-D0A5-4D83-A4D6-1628DB66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1CF49-4EF5-4603-BA9C-6ED9EF41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A358E-6196-4724-8149-508C4AAB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D5C56-3F43-4527-9F53-534E873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C7D42-2B5F-471E-A77D-D227A679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5FC29-D230-4135-B037-72638391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D012DD-6B17-45EE-B84E-C8FBDF2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9C69F-4037-4E45-B4CA-4F1798A0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4AE93-6584-4BB0-B835-ACE185C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3D9D9-4438-492A-A41D-23DDABA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8B5CA-4F25-4A66-8837-CE1F6B5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0269-5314-4381-9607-AC1735B9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B4BF7-F217-4487-94B6-2F529B7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A95EA-8122-4395-B61F-A45DACFB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3B726-BDFF-4694-ACEB-A760BDC7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E3ABC8-6B88-4C80-B431-39BD6200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4CF38-78CF-4EC8-90EE-1AFB8EA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F5D9F-9DA7-448D-B1E5-0EB712A2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F181C8-32D6-43EE-B9F6-31457D2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23952-64B2-440B-A828-148D21A4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2560C-832D-4C9E-8166-B64C9BA5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52F39-F87C-4DFA-9689-F73464C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BBC8-67CE-4DFD-976B-A11825E0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EBDDBC-51C2-4F05-92AA-9993F3F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2AAA1D-BBA6-41AE-97DB-4D6E45E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31E66-4FDC-4907-9901-2FDD332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53E41-845D-4194-89B8-35D8A5EE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83652D-B6AE-47F8-B47D-39D539F2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C087EE-E485-4624-ADE6-243942E6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66164C-FB20-46AB-87B1-13D32A0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28689-471E-4901-8586-79318806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2FD13-FE9B-4F05-9515-9354A9D9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28C51-7B4E-4744-8250-BF1D0D9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06ED-A97A-44B2-A35A-0F05769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020002-95BE-4C85-8568-62F35015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69FE26-1FBC-432C-8A22-63A0F9D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BF25E0-2E1F-4049-AD97-53BFD60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A6C04-AA9F-4618-AA70-F64096C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4BFBB-A7EE-45BB-9AE7-5E502596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41299C-A6CD-436D-A189-A9FEC7E7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F8897-6429-4BE9-9FE8-E65A43B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C8A82F-CCB8-4507-80D0-14183CDB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2D735D-D01F-4AA3-A6EF-C90F10C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952623-7A29-40BA-B75F-A2F5D93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A1D4-CBB5-4142-863E-8ADCB386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326ABD-741D-43E3-8818-B89CC98F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13705-072B-4AC9-B6E5-765BFF2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8DE91C-C2E2-4BA6-A9E3-A38C67ED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1A173-5758-4BC9-A47F-E19FA9F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D78EE9-F844-4A26-9183-5E10F54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430B37-1BC3-493B-BE36-9A1E019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70E7B4-88AD-428A-9B1A-C01D3058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C9D526-09EC-4BA0-AB15-D4D2550D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0B9D83-35BD-4CD0-9A4C-CA2B1AFE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AEB82A-327D-4BD9-9F9F-D28CB276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227E-3249-49DB-95E9-9E034D0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2F32A6-2771-4B21-B057-6934DD65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BE5E2B-F786-4D86-BAE7-B03CA5B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4C00C1-AD40-434E-A107-2207C6CD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D8470-73FA-483F-9A97-938731F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D8F56-9612-417B-B6F1-25AB12B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DEAF57-37A2-4FA8-BBE2-CF4347F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E2FE3-DFFD-4861-851C-EC145AB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05793-5B5C-4464-A432-07A67282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4FA669-DF97-4625-9174-56C4811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4017DA-F9D6-4640-8324-0CB1DF7E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E97-2359-44C5-847E-A5C6399F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3D89-B05B-4938-B877-50F6DE0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354DEE-C8D4-4E45-B8E3-49F647DC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DE0883-C04F-42CF-98EC-7F1F1913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5B65BF-0E18-497A-9126-9B1762E7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51F05E-9C1D-4231-A80A-55C8B4C8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DF320A-A3AB-4ECB-95D2-2BB5B92F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41B264-1C74-451D-8642-BFAD05FB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D01A8D-09E9-49F8-BE09-8999FFAB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DB244D-EFA1-4278-8240-56F8C53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A8CE75-261A-4C50-947E-F636B6A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6A9A20-D146-42D3-8C62-569A57E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5585-82F5-4075-86A0-909C7EA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00015A-F811-45A3-866A-FC36C489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077094-B96A-4873-8DFB-5165F456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0FEA51-54BD-4838-AB8F-1199ACF3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4AEBE8-0B9E-4773-AA12-EF79D622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A2F8FB-0937-4844-B12D-792EB0C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B88303-5994-4784-B903-7A3793B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1782E0-C562-4766-A692-B9DE9A9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42A3F7-3B1A-4E51-BDC4-C5AAD0D3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9640A5-F4D3-4356-AB67-4BFBB18E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38D7C4-5758-4A5B-9F3F-03D86B0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327D-9E48-4478-AE61-994A0D7F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200D3B-325A-4C5D-8EF8-FCB2ED7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8139AA-7E75-43C5-BA9A-717E7FDE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41ED15-BCB8-430E-9F04-E7382DE5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58F086-8235-4E93-934A-A70280F6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C7DA97-0603-4F11-BA15-56AB41E7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027C2-ADF6-4728-B250-31BC5AD9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F5F02B-2B3C-4D54-9683-57F869BF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5088E2-FF7C-4F4B-A578-03E1A48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7F4460-47BB-44E5-88A9-2FDC6EAE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F1A2F2-3062-4FDE-ACF7-F8C0FF8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F2A3-8185-4F5F-AA5B-10C8780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5C7C6E-A2DF-4165-8659-854A80E3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35B3DF-4BCC-4007-9BD7-125A33C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3173B5-561A-41C5-AB56-9B1BDF7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D0CBDA-9F3F-4A2F-8E9C-B0680D5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B15270-27ED-4AA1-B36C-2EC4DE8D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18A498-5BAE-4A36-996E-81AC40FB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E5E538-DDA0-4164-864D-4AD8D035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DCDBC4-0EBB-4CB8-801C-05F35774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63684E-55CB-440C-9EEF-A961E0C3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AFD108-EC62-468F-9DDC-A18BA22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66EE-86D2-42E2-9C3A-AC57D375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BC7A9C-F833-47EC-9F81-5234CEE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4231F5-5369-4264-9A71-BBAC5440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4A0B79-3132-4939-8F71-A1718E1F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AB94B4-D8ED-4DB7-BB19-39F44751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1380A7-7EF9-4B25-BA98-522CA8A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2DC0F7-8914-46AA-A9D5-4DAEEB2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116264-A238-41E9-A899-4C84EA18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4D08D6-DFAF-4ED5-8882-00DBD44D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7DAEC5-F38D-422A-9D7E-A9770A7A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14E8F2-FB8A-42C3-84F3-1C1B9C13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8AE5-69FA-4F65-A7AF-F8519CD8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BE2B28-6ADF-4562-A18F-006B2E5F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AF1B27-8684-438A-9D8E-E621CB8C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550F5E-D54B-4F56-B88D-83F3E8C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2C5DDD-C821-4C55-9E52-4F484398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244B97-15D3-4F1C-9B3F-7FD903F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4F2702-60C1-4728-977C-B1D8E30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8678FB-D872-45D9-A932-0337C3E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F1146F-63CD-45FF-8A31-A773BFE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58ADEB-A9E2-4C5E-9132-E3750EC7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9843AA-8107-4EC6-91B7-2D82D0ED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8D99-7457-4E36-AF6E-1BFD69AA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995B6D-5A62-45F3-BFE1-44B63256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15DB51-F21C-424F-B77F-3DC0FF8B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FE3380-6220-4A26-AF26-DBD59439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4B88C1-F489-4D9B-B156-1BCFF978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272F1-A582-41F1-90CF-967FA767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81DDF7-B917-4B67-9413-186D398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650853-845B-47DB-A42E-073CF35F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B28957-7FE0-4459-9333-4625099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268DBF-9483-4C77-88CA-D68619F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885EA3-8EB8-4BE2-A72F-576890B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1363-6E5F-409F-8A1B-D446C5C8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40448C-44B4-42E2-A801-41DA8D8D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77BCFC-E508-42C3-9BA6-FC5A1083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84D464-BAD2-48B8-88F3-E4282801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D79B-6644-4500-A618-DBF72F58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FB88-C662-46E1-99D3-6AFA12C1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2BD-2FD6-4237-9CF7-16D5241D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FBF0-77E7-4441-836C-128A242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C066-B03B-42BB-99D6-B6E4E53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755C-713D-4CEB-A821-F852279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65A9-4210-448B-BF91-41C5C6C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D406-DFF0-4B06-BCDE-E03CF01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AA09-3BD9-4004-8F96-3F985D72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6A8D-C5E1-46E9-AB05-A7BDE31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94FF-39A3-429F-8634-C45361AA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E91A-F609-40B4-B2EF-4907B05B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AB7A-3A93-4778-A0A9-6AF6E1A0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885-0387-4420-B95E-4B793380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9EE6-0AC0-43D2-A3AA-4FCD5A8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567B-D8A3-439D-B383-1708EF6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69BA-D340-4B2A-ABA6-7B5009B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0E23-3654-4D12-B336-DB092090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1E8F-1C2A-4D97-AE8E-282D9741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EA56-7ABE-4428-916A-EEA256A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FEC7-691B-43BF-B3A5-E2034FD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11E0-0343-4E4F-8959-2D28E92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D253-59EB-46B3-AD33-0A128AEA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1D3B-8163-4E92-8734-5A7EFF5D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FC3-8554-4C29-913F-36873E3B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E974F-3463-4761-9186-912B9A38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ED8E-4268-4AAE-B347-E31D0871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26D3D-1A34-4F06-ACD1-A6771F4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912B-27ED-46CF-B170-22FA9CF3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5F623-02FC-49B2-AC57-ADE4867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C95F-A073-4727-A5AD-6355686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DAE2-919E-478E-9F0B-F31FB649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80C5-6B45-4274-84B6-434D309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42DE-D1ED-4CEC-A22A-05A7C34D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1B18-E8DA-4D25-993F-A7F10D6F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140-CB82-4E4A-AE31-75872E8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5843-1808-45A0-9144-CF39BD9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2F735-D8A2-42E4-8094-D1D0C474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E269-7CD9-42EA-875C-59B53500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8CDC3-B645-494A-B7B2-924D004C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4FF25-646A-4B35-B5D5-0FCA287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FF40-4824-4FB5-9E54-445C1D9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845B-FF73-4E03-B751-5FDC42D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F92C0-0974-4AED-B162-9C6304F1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4E456-D530-416F-99C9-21867C15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91B2-FB34-4C38-828A-96613CB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F90-92B0-4D59-A1D7-82A7F9F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513B-B563-4640-8E68-2EFA022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CFDA-6CD5-47E0-9D71-2DFFE7B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B159-8ECC-4B06-A7AB-46ACB318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D031-ABE2-4ED4-9F2D-204B6163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31E7-BA8C-4C20-8D79-54C67F2C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C6EE-8510-446B-A1EF-541A39B3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B2273-3E8D-4B9C-90C4-6DFD8A4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00533-3E41-49A1-9371-2A3F5CB8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C4EC-4918-4424-A8D0-348D500B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5C9BE-CC8A-4352-81EE-30A5FE5F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359-356C-4D64-8CCB-0D2CDDA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2A84-28ED-4A15-953C-F250812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5266B-D6E9-4DAD-82F0-9D0B10B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0691-D9D2-4862-8640-2CDAED4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7C824-0B5E-4717-8B9C-B368580D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37F7E-7690-4C1D-90A5-B3CF2CFC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26FE1-BFB9-4B4D-947B-BADD2B21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22FC9-C31C-4611-9CBC-96FEC76B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B270A-1283-413B-9D99-E0520DA3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0C14-D413-43DA-AC53-08420E9B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B8CD6-AA8A-4DD1-9A5D-E16C9FA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431-A924-4EA9-8F27-62FA74FD80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AD71-D34B-4E63-8D7E-ADF8BF7F61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9EA2-B560-4974-8B2E-F5135E5F17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DC0-1FD5-4287-AE78-04BC4C58F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FB47-06BC-4A97-8659-84E2D1DD93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7A3-AD6E-41BF-B7E1-305DB54335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C4DB-260B-42DB-9501-E60875ED2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C35-99C2-44D5-807C-2D7E16745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095-C9DD-4C05-BDD7-B468A6EA8E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C896-C8DE-430E-BF9F-58D8B115D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9C8-662C-4444-8856-23665370F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FA4D-8253-4CB8-9B6C-C142DD6E19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B196-D4EC-4F80-8778-56C4B89A2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396-E742-4C8B-B142-596D4638B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4CB4-C02C-4352-9515-8CEEE1BDA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CD0-F96D-418B-9E0B-A8D878DA8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D286-E389-4D7E-A014-5BAE6C615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3175-185C-472A-AE8C-95D9E340C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51EF-0830-4342-B533-64F547ACB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F129-50A2-4694-8DAC-4CE59E727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551-0F32-4408-8293-F4142224FE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F77-7D2C-4A76-B918-7FC1A3242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6E6-F848-4F8F-A643-7FC5109B2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967B-1335-41A5-B7B7-B5A58CE70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CAC-156A-42D2-A9C4-FA566E154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F6F7-7C3E-4F13-8207-F3AB4460E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72E9-21F8-4F28-8B5E-28BF287E5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05D-4C87-4C52-966A-D22AFB443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FB2-F3A5-465D-8A4B-61F6C0C7C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17C-1308-46E2-8413-C241D2643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F83-21E4-48AF-B7E0-566280C4F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42B7-ED2E-481D-94EB-54D29D1C9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DD87-04BA-43D4-94DD-FC963C74B4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835A-2770-4A99-BAB6-23F39EEA6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2F3-9157-4893-A157-8F5AF31EA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A62-4426-4335-9D40-394F1EAB3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612-A4B2-4054-B159-57A9B56C0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EC2-9915-498F-92AB-EE8A45EFF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B0CB-A387-481B-94D7-62FC1EA6F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69E3-A3B0-43ED-8CA1-02A1C2C49D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A2F-24A5-4683-A087-C90A37B14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17F-E2CD-4E6D-B159-D0B5D8D40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23F-11C0-43A0-A417-BF402B9EE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5B2-BD38-4AF7-BF0B-FA4E50328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59B-7D9C-46D4-BEEF-6AAF163F08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B32-9826-4B13-8E61-0FD081BD12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FB22-5935-418B-B1FD-3E43A7E73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C1C0-9872-416F-8E74-2157DECE19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BAA0-1F52-4D1C-9C45-0C12EAD8B6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C57-D8FB-487C-8CA7-3A836E6F3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500120" y="3014640"/>
            <a:ext cx="61437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9873" descr=""/>
          <p:cNvPicPr/>
          <p:nvPr/>
        </p:nvPicPr>
        <p:blipFill>
          <a:blip r:embed="rId1"/>
          <a:stretch/>
        </p:blipFill>
        <p:spPr>
          <a:xfrm>
            <a:off x="514440" y="1419120"/>
            <a:ext cx="8115120" cy="40197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9874"/>
          <p:cNvSpPr/>
          <p:nvPr/>
        </p:nvSpPr>
        <p:spPr>
          <a:xfrm>
            <a:off x="3992400" y="3970440"/>
            <a:ext cx="14432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79875"/>
          <p:cNvSpPr/>
          <p:nvPr/>
        </p:nvSpPr>
        <p:spPr>
          <a:xfrm>
            <a:off x="4278240" y="4513320"/>
            <a:ext cx="1085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8849" descr=""/>
          <p:cNvPicPr/>
          <p:nvPr/>
        </p:nvPicPr>
        <p:blipFill>
          <a:blip r:embed="rId1"/>
          <a:stretch/>
        </p:blipFill>
        <p:spPr>
          <a:xfrm>
            <a:off x="552600" y="1847880"/>
            <a:ext cx="8038800" cy="31622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78850"/>
          <p:cNvSpPr/>
          <p:nvPr/>
        </p:nvSpPr>
        <p:spPr>
          <a:xfrm>
            <a:off x="1925640" y="35226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78851"/>
          <p:cNvSpPr/>
          <p:nvPr/>
        </p:nvSpPr>
        <p:spPr>
          <a:xfrm>
            <a:off x="1477800" y="4065480"/>
            <a:ext cx="5731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8852"/>
          <p:cNvSpPr/>
          <p:nvPr/>
        </p:nvSpPr>
        <p:spPr>
          <a:xfrm>
            <a:off x="5145120" y="4513320"/>
            <a:ext cx="5731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77825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048520" cy="103824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77826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715160" cy="1009800"/>
          </a:xfrm>
          <a:prstGeom prst="rect">
            <a:avLst/>
          </a:prstGeom>
          <a:ln w="0">
            <a:noFill/>
          </a:ln>
        </p:spPr>
      </p:pic>
      <p:sp>
        <p:nvSpPr>
          <p:cNvPr id="1459" name="矩形 77827"/>
          <p:cNvSpPr/>
          <p:nvPr/>
        </p:nvSpPr>
        <p:spPr>
          <a:xfrm>
            <a:off x="6954840" y="2608200"/>
            <a:ext cx="7858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7828"/>
          <p:cNvSpPr/>
          <p:nvPr/>
        </p:nvSpPr>
        <p:spPr>
          <a:xfrm>
            <a:off x="1611360" y="3132000"/>
            <a:ext cx="7858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77829"/>
          <p:cNvSpPr/>
          <p:nvPr/>
        </p:nvSpPr>
        <p:spPr>
          <a:xfrm>
            <a:off x="5878440" y="3675240"/>
            <a:ext cx="1214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76801" descr=""/>
          <p:cNvPicPr/>
          <p:nvPr/>
        </p:nvPicPr>
        <p:blipFill>
          <a:blip r:embed="rId1"/>
          <a:stretch/>
        </p:blipFill>
        <p:spPr>
          <a:xfrm>
            <a:off x="528480" y="1262160"/>
            <a:ext cx="8087040" cy="43336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76802"/>
          <p:cNvSpPr/>
          <p:nvPr/>
        </p:nvSpPr>
        <p:spPr>
          <a:xfrm>
            <a:off x="1187280" y="3284640"/>
            <a:ext cx="21844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图片 76804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2552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9089" descr=""/>
          <p:cNvPicPr/>
          <p:nvPr/>
        </p:nvPicPr>
        <p:blipFill>
          <a:blip r:embed="rId1"/>
          <a:stretch/>
        </p:blipFill>
        <p:spPr>
          <a:xfrm>
            <a:off x="476280" y="1343160"/>
            <a:ext cx="81914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90113" descr=""/>
          <p:cNvPicPr/>
          <p:nvPr/>
        </p:nvPicPr>
        <p:blipFill>
          <a:blip r:embed="rId1"/>
          <a:stretch/>
        </p:blipFill>
        <p:spPr>
          <a:xfrm>
            <a:off x="695160" y="1643040"/>
            <a:ext cx="7753680" cy="3571920"/>
          </a:xfrm>
          <a:prstGeom prst="rect">
            <a:avLst/>
          </a:prstGeom>
          <a:ln w="0">
            <a:noFill/>
          </a:ln>
        </p:spPr>
      </p:pic>
      <p:sp>
        <p:nvSpPr>
          <p:cNvPr id="1467" name="矩形 90114"/>
          <p:cNvSpPr/>
          <p:nvPr/>
        </p:nvSpPr>
        <p:spPr>
          <a:xfrm>
            <a:off x="4016520" y="1569960"/>
            <a:ext cx="7714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0115"/>
          <p:cNvSpPr/>
          <p:nvPr/>
        </p:nvSpPr>
        <p:spPr>
          <a:xfrm>
            <a:off x="7045200" y="2122560"/>
            <a:ext cx="7714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90118"/>
          <p:cNvSpPr/>
          <p:nvPr/>
        </p:nvSpPr>
        <p:spPr>
          <a:xfrm>
            <a:off x="2978280" y="3665520"/>
            <a:ext cx="7714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1137" descr=""/>
          <p:cNvPicPr/>
          <p:nvPr/>
        </p:nvPicPr>
        <p:blipFill>
          <a:blip r:embed="rId1"/>
          <a:stretch/>
        </p:blipFill>
        <p:spPr>
          <a:xfrm>
            <a:off x="547560" y="1471680"/>
            <a:ext cx="80488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2161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91320" cy="616572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2162"/>
          <p:cNvSpPr/>
          <p:nvPr/>
        </p:nvSpPr>
        <p:spPr>
          <a:xfrm>
            <a:off x="2320920" y="1150920"/>
            <a:ext cx="4987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2163"/>
          <p:cNvSpPr/>
          <p:nvPr/>
        </p:nvSpPr>
        <p:spPr>
          <a:xfrm>
            <a:off x="7359480" y="1693800"/>
            <a:ext cx="771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2164"/>
          <p:cNvSpPr/>
          <p:nvPr/>
        </p:nvSpPr>
        <p:spPr>
          <a:xfrm>
            <a:off x="1387440" y="2198520"/>
            <a:ext cx="1816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2165"/>
          <p:cNvSpPr/>
          <p:nvPr/>
        </p:nvSpPr>
        <p:spPr>
          <a:xfrm>
            <a:off x="3919680" y="3213000"/>
            <a:ext cx="4252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2166"/>
          <p:cNvSpPr/>
          <p:nvPr/>
        </p:nvSpPr>
        <p:spPr>
          <a:xfrm>
            <a:off x="1368360" y="3770280"/>
            <a:ext cx="6825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92167"/>
          <p:cNvSpPr/>
          <p:nvPr/>
        </p:nvSpPr>
        <p:spPr>
          <a:xfrm>
            <a:off x="1978200" y="4780080"/>
            <a:ext cx="1153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2168"/>
          <p:cNvSpPr/>
          <p:nvPr/>
        </p:nvSpPr>
        <p:spPr>
          <a:xfrm>
            <a:off x="3940200" y="5846760"/>
            <a:ext cx="11541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2169"/>
          <p:cNvSpPr/>
          <p:nvPr/>
        </p:nvSpPr>
        <p:spPr>
          <a:xfrm>
            <a:off x="2268360" y="6426360"/>
            <a:ext cx="115416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134560" cy="24195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12000" y="314172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63000" cy="57247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754760" y="12654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542880" y="1967040"/>
            <a:ext cx="8058240" cy="29239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4259160" y="25034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476280" y="1309680"/>
            <a:ext cx="8191440" cy="423864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4268880" y="30272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485640" y="714240"/>
            <a:ext cx="8172720" cy="542952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7802640" y="69372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48880" cy="152388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82946" descr=""/>
          <p:cNvPicPr/>
          <p:nvPr/>
        </p:nvPicPr>
        <p:blipFill>
          <a:blip r:embed="rId2"/>
          <a:stretch/>
        </p:blipFill>
        <p:spPr>
          <a:xfrm>
            <a:off x="971640" y="2238480"/>
            <a:ext cx="7715160" cy="46195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82947"/>
          <p:cNvSpPr/>
          <p:nvPr/>
        </p:nvSpPr>
        <p:spPr>
          <a:xfrm>
            <a:off x="7821720" y="21985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192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81920" cy="576252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1922"/>
          <p:cNvSpPr/>
          <p:nvPr/>
        </p:nvSpPr>
        <p:spPr>
          <a:xfrm>
            <a:off x="7764480" y="13320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0897" descr=""/>
          <p:cNvPicPr/>
          <p:nvPr/>
        </p:nvPicPr>
        <p:blipFill>
          <a:blip r:embed="rId1"/>
          <a:stretch/>
        </p:blipFill>
        <p:spPr>
          <a:xfrm>
            <a:off x="523800" y="885960"/>
            <a:ext cx="8096400" cy="50860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0898"/>
          <p:cNvSpPr/>
          <p:nvPr/>
        </p:nvSpPr>
        <p:spPr>
          <a:xfrm>
            <a:off x="7764480" y="13986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8:58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